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5F7-AF13-4596-A302-63C66E85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4F8-9294-42BE-A816-C747BDDA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B6F-F2DC-457E-8046-0CAA96E7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8E9-856B-415B-960E-090B4942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28B8-BA7C-4C20-A388-A7300A79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145A-0E68-40E7-8185-768247C0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A12B-F423-4296-9F3C-7F64FB0B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C3D3-E126-4DB9-8F96-621B9862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AA81-2F95-4933-AC31-68AD2CCF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BD91-E296-4A46-BC4E-7AA229B1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EE59-6CBA-4BC8-BCE0-4EF6EA19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8E2-B500-45BF-8EC3-09C79F9E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525D-3D9B-4467-8E22-E99677E7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4C7F-1D60-456C-9767-52E65445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1BE5-9A1B-4F29-941D-7E28F2A6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7DB9-5E49-42D9-9413-B588E28E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1521-BD6D-487A-9313-E5FC2267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C2E-D59E-4CED-B787-ED04BB98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364-E046-4CA2-A111-516B6355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ED0-398C-4D37-91CA-B53790E0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615-F663-4ECA-8DA7-CC1E31CE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B13-FC8A-4EEF-8AFB-7AD930AF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89F-EB55-488B-8FBE-2FD5CB8A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EA0-0537-4304-B071-E57D9FE1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BA94-3B62-4678-AA2B-30B6C2590E8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5280" y="50040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2160" y="2628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2000" y="140328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78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5800" y="192600"/>
                  <a:ext cx="2869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5366-CACA-4457-A38C-B1ADF80756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rdean2@ilstu.edu" TargetMode="External"/><Relationship Id="rId2" Type="http://schemas.openxmlformats.org/officeDocument/2006/relationships/hyperlink" Target="http://ci306-4.wikispaces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&amp;I 306, Section 04  </a:t>
            </a: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elcome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505320"/>
            <a:ext cx="6032520" cy="15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nuary 14, 20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make a name c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Video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at do you believe in? Why do you want to teach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In other words…. What is your why?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ake a minute &amp; write your one sentence why on your name car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literac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prezi.com/ln4lsuf6cex6/what-is-literacy/?auth_key=8950d5f73c53ea9607c2f8d076811f9987aac9a3&amp;kw=view-ln4lsuf6cex6&amp;rc=ref-1129569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Wiki and Tech Tools we’ll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llab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Content Placeholder 5" descr="6_28 iphone import 030.JPG"/>
          <p:cNvPicPr/>
          <p:nvPr/>
        </p:nvPicPr>
        <p:blipFill>
          <a:blip r:embed="rId1"/>
          <a:stretch/>
        </p:blipFill>
        <p:spPr>
          <a:xfrm>
            <a:off x="1143000" y="1685880"/>
            <a:ext cx="3483000" cy="4645080"/>
          </a:xfrm>
          <a:prstGeom prst="rect">
            <a:avLst/>
          </a:prstGeom>
          <a:ln w="0">
            <a:noFill/>
          </a:ln>
        </p:spPr>
      </p:pic>
      <p:pic>
        <p:nvPicPr>
          <p:cNvPr id="157" name="Content Placeholder 6" descr="sync 7_5_11 006.JPG"/>
          <p:cNvPicPr/>
          <p:nvPr/>
        </p:nvPicPr>
        <p:blipFill>
          <a:blip r:embed="rId2"/>
          <a:stretch/>
        </p:blipFill>
        <p:spPr>
          <a:xfrm>
            <a:off x="4800600" y="1676520"/>
            <a:ext cx="34830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are you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in small groups (3-4 peopl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l out the fo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things you have in common (not things like we all have 2 arms, we all have on clothes…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ready to share ou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mportant Info on Communic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4475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lease use ilstu email to contact me at </a:t>
            </a:r>
            <a:r>
              <a:rPr b="0" lang="en-US" sz="2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trdean2@ilstu.edu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Department policy) I can only use your university email address to correspond with you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ignments and resources will be placed on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the course wiki : </a:t>
            </a:r>
            <a:r>
              <a:rPr b="0" lang="en-US" sz="2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ci306-4.wikispaces.com/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y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Bo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kendallhunt.com/store-product.aspx?id=6260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ebcom8.grtxle.com/index.cfm?cu=literacyle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llabus Review/Course Wik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yllabus is posted on the course wik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view Course Calend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 Next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sure to get your Textboo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the course wik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your dropbox folder and share with 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Chapter 1, The Right to Litera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Cla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712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ology troubleshoo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your 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literac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9:44:25Z</dcterms:created>
  <dc:creator>VeselakC</dc:creator>
  <dc:description/>
  <dc:language>en-US</dc:language>
  <cp:lastModifiedBy>netsetup</cp:lastModifiedBy>
  <dcterms:modified xsi:type="dcterms:W3CDTF">2013-01-16T16:14:38Z</dcterms:modified>
  <cp:revision>71</cp:revision>
  <dc:subject/>
  <dc:title>C&amp;I 209, Section 01 Welcome!</dc:title>
</cp:coreProperties>
</file>