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7B6E-3885-419B-A462-BF4F06A16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46FD-B8FE-4086-8A1C-03AB23DB4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D028-E199-4DDB-8D54-C8AA518E7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A45A-3D94-4749-A8A4-320A182BE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789EC-E204-4B1E-B42E-F664FE961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E2B94-CFBE-47EA-8F80-7DD5D635E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492D8-D345-42D2-9FD1-09A3FFA6D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9E53E-220D-4B43-81D8-FAFF04AC1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4A82A-EAA4-415B-98AA-9E15C8B57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8A569-2657-4B71-92C1-982E5E540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D7FE2-552D-422A-A62E-32AE0A8B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60AD-2E42-4DF5-B293-9F906BA6E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F6C0E-014F-4029-B0E0-1423B728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64EB6-2B39-4508-A8B7-75307DFF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D0E99-8FC0-4886-862D-1A54C2880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BEA42-0DA2-424F-A980-DC19F2558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7BE45-1FA0-4C3A-A2AD-50FDA2B50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C41C-F078-40E0-9828-20DEFE26A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F531-E99E-467E-969E-CC9B79434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6D34-7433-456A-A571-D2DABD06F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E400-4502-4D34-908A-586D18068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C7B3-7951-42F3-AC82-390E4CE8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7ACD-E2F6-4C35-8A19-B6A10923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A250-86E5-4098-85AC-E7C6CB03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B8172-664B-491D-B870-D4F42257968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5280" y="50040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2160" y="2628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2000" y="1403280"/>
                  <a:ext cx="27072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78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5800" y="192600"/>
                  <a:ext cx="28692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9D436-D841-4C86-91F3-53F126B6CF3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trdean2@ilstu.edu" TargetMode="External"/><Relationship Id="rId2" Type="http://schemas.openxmlformats.org/officeDocument/2006/relationships/hyperlink" Target="http://ci306-4.wikispaces.com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6400800" cy="14475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&amp;I 306, Section 04  </a:t>
            </a:r>
            <a:br>
              <a:rPr sz="40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Welcome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505320"/>
            <a:ext cx="6032520" cy="15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anuary 14, 201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ease make a name car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your wh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Video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What do you believe in? Why do you want to teach?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In other words…. What is your why?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ake a minute &amp; write your one sentence why on your name card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2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literac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ttp://prezi.com/ln4lsuf6cex6/what-is-literacy/?auth_key=8950d5f73c53ea9607c2f8d076811f9987aac9a3&amp;kw=view-ln4lsuf6cex6&amp;rc=ref-1129569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day’s Cla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137124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roduc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your wh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urse Wiki and Tech Tools we’ll u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yllab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out 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Content Placeholder 5" descr="6_28 iphone import 030.JPG"/>
          <p:cNvPicPr/>
          <p:nvPr/>
        </p:nvPicPr>
        <p:blipFill>
          <a:blip r:embed="rId1"/>
          <a:stretch/>
        </p:blipFill>
        <p:spPr>
          <a:xfrm>
            <a:off x="1143000" y="1685880"/>
            <a:ext cx="3483000" cy="4645080"/>
          </a:xfrm>
          <a:prstGeom prst="rect">
            <a:avLst/>
          </a:prstGeom>
          <a:ln w="0">
            <a:noFill/>
          </a:ln>
        </p:spPr>
      </p:pic>
      <p:pic>
        <p:nvPicPr>
          <p:cNvPr id="157" name="Content Placeholder 6" descr="sync 7_5_11 006.JPG"/>
          <p:cNvPicPr/>
          <p:nvPr/>
        </p:nvPicPr>
        <p:blipFill>
          <a:blip r:embed="rId2"/>
          <a:stretch/>
        </p:blipFill>
        <p:spPr>
          <a:xfrm>
            <a:off x="4800600" y="1676520"/>
            <a:ext cx="348300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o are you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et in small groups (3-4 people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ll out the for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 things you have in common (not things like we all have 2 arms, we all have on clothes…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 ready to share ou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mportant Info on Communica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144756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lease use ilstu email to contact me at </a:t>
            </a:r>
            <a:r>
              <a:rPr b="0" lang="en-US" sz="22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trdean2@ilstu.edu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(Department policy) I can only use your university email address to correspond with you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ssignments and resources will be placed on </a:t>
            </a:r>
            <a:r>
              <a:rPr b="0" i="1" lang="en-US" sz="2200" spc="-1" strike="noStrike">
                <a:solidFill>
                  <a:srgbClr val="000000"/>
                </a:solidFill>
                <a:latin typeface="Comic Sans MS"/>
              </a:rPr>
              <a:t>the course wiki : </a:t>
            </a:r>
            <a:r>
              <a:rPr b="0" lang="en-US" sz="22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http://ci306-4.wikispaces.com/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chnology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ik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opBox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extboo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ttp://www.kendallhunt.com/store-product.aspx?id=6260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ttp://webcom8.grtxle.com/index.cfm?cu=literacyle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llabus Review/Course Wik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yllabus is posted on the course wik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view Course Calenda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 Next Ti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137124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 sure to get your Textbook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oin the course wik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reate your dropbox folder and share with 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d Chapter 1, The Right to Literac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day’s Cla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37124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chnology troubleshoot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your wh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literac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19:44:25Z</dcterms:created>
  <dc:creator>VeselakC</dc:creator>
  <dc:description/>
  <dc:language>en-US</dc:language>
  <cp:lastModifiedBy>netsetup</cp:lastModifiedBy>
  <dcterms:modified xsi:type="dcterms:W3CDTF">2013-01-16T16:14:38Z</dcterms:modified>
  <cp:revision>71</cp:revision>
  <dc:subject/>
  <dc:title>C&amp;I 209, Section 01 Welcome!</dc:title>
</cp:coreProperties>
</file>