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738-D5AD-49D3-9E32-892ECFFD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3065-984D-4292-984E-C6D90820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DA9-5890-41ED-AA55-DEAC9E07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9C5-F211-4B50-B4D9-44A44B9A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D4F9-BA76-46D4-A98C-C87B28EE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3091-9027-47AA-A5D7-9A3A0799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0D9A-EE10-4507-B4BB-90987CD4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4855-B863-4F87-A9F1-BA581049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13E9-632C-418C-9655-BE7375A5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F17D-3183-40AF-B792-4B78057F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5D04-6B3D-45B2-91CC-7C340F4C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A0F-25DD-40BB-83D5-2BFB7BC4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570E-4E3D-496C-A16A-2C8D816F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DB65-FBBB-435E-A64A-899827B5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35C6-32D9-4F4C-AFA6-60286A94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6213-9439-4FB2-A0E2-9D7E03E2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0CA8-8281-4DDB-865E-8D657C0A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564-70AC-4368-9DC8-1A1B3E37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301-A748-48E6-8CAF-51DD3C4F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9A7-94FC-4E16-B009-4F8331CE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B48-C9F0-4334-A061-DB96977C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CF7-C241-4AA3-9C42-8F923D27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D67-1F12-4AE6-8A09-CD0049B0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549-5594-4CA3-A3B8-1BE696B2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2954-CEB7-48C7-AC5A-624584AC95D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5280" y="50040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2160" y="2628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2000" y="140328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78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5800" y="192600"/>
                  <a:ext cx="2869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F059-3395-4E74-9205-35225FFFD5C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rdean2@ilstu.edu" TargetMode="External"/><Relationship Id="rId2" Type="http://schemas.openxmlformats.org/officeDocument/2006/relationships/hyperlink" Target="http://ci306-4.wikispaces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&amp;I 306, Section 04  </a:t>
            </a:r>
            <a:br>
              <a:rPr sz="40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elcom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505320"/>
            <a:ext cx="6032520" cy="15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nuary 14, 20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make a name c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your w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Video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hat do you believe in? Why do you want to teach?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n other words…. What is your why?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ake a minute &amp; write your one sentence why on your name car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literac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prezi.com/ln4lsuf6cex6/what-is-literacy/?auth_key=8950d5f73c53ea9607c2f8d076811f9987aac9a3&amp;kw=view-ln4lsuf6cex6&amp;rc=ref-1129569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’s Cla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3712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your 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Wiki and Tech Tools we’ll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llab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Content Placeholder 5" descr="6_28 iphone import 030.JPG"/>
          <p:cNvPicPr/>
          <p:nvPr/>
        </p:nvPicPr>
        <p:blipFill>
          <a:blip r:embed="rId1"/>
          <a:stretch/>
        </p:blipFill>
        <p:spPr>
          <a:xfrm>
            <a:off x="1143000" y="1685880"/>
            <a:ext cx="3483000" cy="4645080"/>
          </a:xfrm>
          <a:prstGeom prst="rect">
            <a:avLst/>
          </a:prstGeom>
          <a:ln w="0">
            <a:noFill/>
          </a:ln>
        </p:spPr>
      </p:pic>
      <p:pic>
        <p:nvPicPr>
          <p:cNvPr id="157" name="Content Placeholder 6" descr="sync 7_5_11 006.JPG"/>
          <p:cNvPicPr/>
          <p:nvPr/>
        </p:nvPicPr>
        <p:blipFill>
          <a:blip r:embed="rId2"/>
          <a:stretch/>
        </p:blipFill>
        <p:spPr>
          <a:xfrm>
            <a:off x="4800600" y="1676520"/>
            <a:ext cx="348300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are you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in small groups (3-4 peopl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l out the fo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things you have in common (not things like we all have 2 arms, we all have on clothes…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ready to share o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portant Info on Commun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4475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lease use ilstu email to contact me at </a:t>
            </a:r>
            <a:r>
              <a:rPr b="0" lang="en-US" sz="2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trdean2@ilstu.edu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(Department policy) I can only use your university email address to correspond with you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signments and resources will be placed on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the course wiki : </a:t>
            </a:r>
            <a:r>
              <a:rPr b="0" lang="en-US" sz="2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ci306-4.wikispaces.com/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y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k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Bo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kendallhunt.com/store-product.aspx?id=6260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ebcom8.grtxle.com/index.cfm?cu=literacyle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llabus Review/Course Wik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yllabus is posted on the course wik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view Course Calend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Next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712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sure to get your Textboo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 the course wik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your dropbox folder and share with 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Chapter 1, The Right to Litera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’s Cla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712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ology troubleshoo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your 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literac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9:44:25Z</dcterms:created>
  <dc:creator>VeselakC</dc:creator>
  <dc:description/>
  <dc:language>en-US</dc:language>
  <cp:lastModifiedBy>netsetup</cp:lastModifiedBy>
  <dcterms:modified xsi:type="dcterms:W3CDTF">2013-01-16T16:14:38Z</dcterms:modified>
  <cp:revision>71</cp:revision>
  <dc:subject/>
  <dc:title>C&amp;I 209, Section 01 Welcome!</dc:title>
</cp:coreProperties>
</file>